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7.png" ContentType="image/pn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62.jpeg" ContentType="image/jpeg"/>
  <Override PartName="/ppt/media/image7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64.jpeg" ContentType="image/jpeg"/>
  <Override PartName="/ppt/media/image65.jpeg" ContentType="image/jpeg"/>
  <Override PartName="/ppt/media/image78.jpeg" ContentType="image/jpeg"/>
  <Override PartName="/ppt/media/image70.jpeg" ContentType="image/jpeg"/>
  <Override PartName="/ppt/media/image43.jpeg" ContentType="image/jpeg"/>
  <Override PartName="/ppt/media/image72.png" ContentType="image/png"/>
  <Override PartName="/ppt/media/image24.jpeg" ContentType="image/jpeg"/>
  <Override PartName="/ppt/media/image83.jpeg" ContentType="image/jpeg"/>
  <Override PartName="/ppt/media/image77.jpeg" ContentType="image/jpeg"/>
  <Override PartName="/ppt/media/image8.jpeg" ContentType="image/jpeg"/>
  <Override PartName="/ppt/media/image26.png" ContentType="image/png"/>
  <Override PartName="/ppt/media/image23.jpeg" ContentType="image/jpeg"/>
  <Override PartName="/ppt/media/image82.jpeg" ContentType="image/jpeg"/>
  <Override PartName="/ppt/media/image76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1.png" ContentType="image/png"/>
  <Override PartName="/ppt/media/image68.jpeg" ContentType="image/jpeg"/>
  <Override PartName="/ppt/media/image71.jpeg" ContentType="image/jpeg"/>
  <Override PartName="/ppt/media/image67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9F2-8305-493B-80EA-B2324D59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E66-6C57-4BEF-86C6-48AC1B32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5C6-1AC1-4AA6-A69D-CA036C2C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BB3-2E0B-4C98-B50E-10AF1064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180-310B-4FD0-96FC-8E719A63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5B0-2C9A-415A-B872-43A71376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759-1C9C-4328-B5A0-B6292694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50B9-AD24-403E-87C5-81C6B9C3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E55-2BCC-458D-9566-B726AF32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8B7-3BF0-43C6-8B10-F13DB132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853-729F-46A0-88FF-CB0A77CA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28F3-65A7-40E2-8317-0007DC49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2204-F028-4AF5-8B15-CFCE2C99D0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ikegershon@hotmail.com" TargetMode="External"/><Relationship Id="rId2" Type="http://schemas.openxmlformats.org/officeDocument/2006/relationships/hyperlink" Target="http://www.aaia.org.uk/pdf/Publications/AAIA%20Pupils%20Learning%20from%20Teachers&apos;%20Responses.pdf" TargetMode="External"/><Relationship Id="rId3" Type="http://schemas.openxmlformats.org/officeDocument/2006/relationships/hyperlink" Target="http://www.aaia.org.uk/pdf/Publications/AAIAformat4.pdf" TargetMode="External"/><Relationship Id="rId4" Type="http://schemas.openxmlformats.org/officeDocument/2006/relationships/hyperlink" Target="http://www.aaia.org.uk/pdf/asst_learning_practice.pdf" TargetMode="External"/><Relationship Id="rId5" Type="http://schemas.openxmlformats.org/officeDocument/2006/relationships/hyperlink" Target="http://community.tes.co.uk/forums/t/300200.aspx" TargetMode="External"/><Relationship Id="rId6" Type="http://schemas.openxmlformats.org/officeDocument/2006/relationships/hyperlink" Target="http://www.schoolhistory.co.uk/forum/lofiversion/index.php/t7669.html" TargetMode="External"/><Relationship Id="rId7" Type="http://schemas.openxmlformats.org/officeDocument/2006/relationships/hyperlink" Target="http://www.harford.edu/irc/assessment/FormativeAssessmentActivities.doc" TargetMode="External"/><Relationship Id="rId8" Type="http://schemas.openxmlformats.org/officeDocument/2006/relationships/hyperlink" Target="http://www.harford.edu/irc/assessment/FormativeAssessmentActivities.doc" TargetMode="External"/><Relationship Id="rId9" Type="http://schemas.openxmlformats.org/officeDocument/2006/relationships/hyperlink" Target="http://www.harford.edu/irc/assessment/FormativeAssessmentActivities.doc" TargetMode="External"/><Relationship Id="rId10" Type="http://schemas.openxmlformats.org/officeDocument/2006/relationships/hyperlink" Target="http://www.harford.edu/irc/assessment/FormativeAssessmentActivities.doc" TargetMode="External"/><Relationship Id="rId11" Type="http://schemas.openxmlformats.org/officeDocument/2006/relationships/hyperlink" Target="http://www.harford.edu/irc/assessment/FormativeAssessmentActivities.doc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7.xml"/><Relationship Id="rId17" Type="http://schemas.openxmlformats.org/officeDocument/2006/relationships/slide" Target="slide72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71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8.xml"/><Relationship Id="rId29" Type="http://schemas.openxmlformats.org/officeDocument/2006/relationships/slide" Target="slide29.xml"/><Relationship Id="rId30" Type="http://schemas.openxmlformats.org/officeDocument/2006/relationships/slide" Target="slide41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slide" Target="slide33.xml"/><Relationship Id="rId35" Type="http://schemas.openxmlformats.org/officeDocument/2006/relationships/slide" Target="slide34.xml"/><Relationship Id="rId36" Type="http://schemas.openxmlformats.org/officeDocument/2006/relationships/slide" Target="slide35.xml"/><Relationship Id="rId37" Type="http://schemas.openxmlformats.org/officeDocument/2006/relationships/slide" Target="slide36.xml"/><Relationship Id="rId38" Type="http://schemas.openxmlformats.org/officeDocument/2006/relationships/slide" Target="slide37.xml"/><Relationship Id="rId39" Type="http://schemas.openxmlformats.org/officeDocument/2006/relationships/slide" Target="slide38.xml"/><Relationship Id="rId40" Type="http://schemas.openxmlformats.org/officeDocument/2006/relationships/slide" Target="slide39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4.xml"/><Relationship Id="rId47" Type="http://schemas.openxmlformats.org/officeDocument/2006/relationships/slide" Target="slide47.xml"/><Relationship Id="rId48" Type="http://schemas.openxmlformats.org/officeDocument/2006/relationships/slide" Target="slide48.xml"/><Relationship Id="rId49" Type="http://schemas.openxmlformats.org/officeDocument/2006/relationships/slide" Target="slide49.xml"/><Relationship Id="rId50" Type="http://schemas.openxmlformats.org/officeDocument/2006/relationships/slide" Target="slide50.xml"/><Relationship Id="rId51" Type="http://schemas.openxmlformats.org/officeDocument/2006/relationships/slide" Target="slide51.xml"/><Relationship Id="rId52" Type="http://schemas.openxmlformats.org/officeDocument/2006/relationships/slide" Target="slide52.xml"/><Relationship Id="rId53" Type="http://schemas.openxmlformats.org/officeDocument/2006/relationships/slide" Target="slide53.xml"/><Relationship Id="rId54" Type="http://schemas.openxmlformats.org/officeDocument/2006/relationships/slide" Target="slide54.xml"/><Relationship Id="rId55" Type="http://schemas.openxmlformats.org/officeDocument/2006/relationships/slide" Target="slide55.xml"/><Relationship Id="rId56" Type="http://schemas.openxmlformats.org/officeDocument/2006/relationships/slide" Target="slide56.xml"/><Relationship Id="rId57" Type="http://schemas.openxmlformats.org/officeDocument/2006/relationships/slide" Target="slide57.xml"/><Relationship Id="rId58" Type="http://schemas.openxmlformats.org/officeDocument/2006/relationships/slide" Target="slide58.xml"/><Relationship Id="rId59" Type="http://schemas.openxmlformats.org/officeDocument/2006/relationships/slide" Target="slide59.xml"/><Relationship Id="rId60" Type="http://schemas.openxmlformats.org/officeDocument/2006/relationships/slide" Target="slide60.xml"/><Relationship Id="rId61" Type="http://schemas.openxmlformats.org/officeDocument/2006/relationships/slide" Target="slide61.xml"/><Relationship Id="rId62" Type="http://schemas.openxmlformats.org/officeDocument/2006/relationships/slide" Target="slide62.xml"/><Relationship Id="rId63" Type="http://schemas.openxmlformats.org/officeDocument/2006/relationships/slide" Target="slide63.xml"/><Relationship Id="rId64" Type="http://schemas.openxmlformats.org/officeDocument/2006/relationships/slide" Target="slide64.xml"/><Relationship Id="rId65" Type="http://schemas.openxmlformats.org/officeDocument/2006/relationships/slide" Target="slide65.xml"/><Relationship Id="rId66" Type="http://schemas.openxmlformats.org/officeDocument/2006/relationships/slide" Target="slide66.xml"/><Relationship Id="rId67" Type="http://schemas.openxmlformats.org/officeDocument/2006/relationships/slide" Target="slide67.xml"/><Relationship Id="rId68" Type="http://schemas.openxmlformats.org/officeDocument/2006/relationships/slide" Target="slide68.xml"/><Relationship Id="rId69" Type="http://schemas.openxmlformats.org/officeDocument/2006/relationships/slide" Target="slide69.xml"/><Relationship Id="rId70" Type="http://schemas.openxmlformats.org/officeDocument/2006/relationships/slide" Target="slide70.xml"/><Relationship Id="rId71" Type="http://schemas.openxmlformats.org/officeDocument/2006/relationships/image" Target="../media/image2.png"/><Relationship Id="rId7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hyperlink" Target="http://www.aaia.org.uk/pdf/Publications/AAIAformat4.pdf" TargetMode="Externa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classtools.net/" TargetMode="External"/><Relationship Id="rId2" Type="http://schemas.openxmlformats.org/officeDocument/2006/relationships/image" Target="../media/image6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ampus.manchester.ac.uk/ceebl/ebl/" TargetMode="External"/><Relationship Id="rId2" Type="http://schemas.openxmlformats.org/officeDocument/2006/relationships/image" Target="../media/image7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858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essment For Learning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0"/>
            <a:ext cx="28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de by Mike Gershon –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kegershon@hotmail.c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3903840"/>
            <a:ext cx="85726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aia.org.uk/pdf/Publications/AAIA%20Pupils%20Learning%20from%20Teachers'%20Response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aia.org.uk/pdf/Publications/AAIAformat4.pdf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aia.org.uk/pdf/asst_learning_practice.pdf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community.tes.co.uk/forums/t/300200.aspx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schoolhistory.co.uk/forum/lofiversion/index.php/t7669.html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harford.edu/irc/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ssessment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ormativeAssessmentActivities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doc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et al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ssessment for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pen University Press, Maidenhead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et al, “Working inside the black box”, (nferNelson, London,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and Dylan William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side the Black Box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nferNelson, London, 199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ment Reform Group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esting, Motivation and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The Assessment Reform Group, Cambridge, 200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ment Reform Group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ssessment for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The Assessment Reform Group, Cambridge, 199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people’s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http://parentsandafl.standards.dfes.gov.uk/assets/wrapperbg1.jpg"/>
          <p:cNvPicPr/>
          <p:nvPr/>
        </p:nvPicPr>
        <p:blipFill>
          <a:blip r:embed="rId12"/>
          <a:stretch/>
        </p:blipFill>
        <p:spPr>
          <a:xfrm>
            <a:off x="1428840" y="1071720"/>
            <a:ext cx="3476520" cy="3031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5572080" y="1500120"/>
            <a:ext cx="328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L is successful when embedded in teaching and lear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oolkit aims to help by presenting different facets, activities and tools for teachers to use in order to achiev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hope you find it usefu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empla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setting students a pie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, show them examples that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lear what it is they are being as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o – and what they need to do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 to meet the assessment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ould mark exemplar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the assessment criteria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help model what is being as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nd how it relates to the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elgg.learnblog.net/news/files/1/20/DSC00101.JPG"/>
          <p:cNvPicPr/>
          <p:nvPr/>
        </p:nvPicPr>
        <p:blipFill>
          <a:blip r:embed="rId1"/>
          <a:srcRect l="0" t="0" r="0" b="4362"/>
          <a:stretch/>
        </p:blipFill>
        <p:spPr>
          <a:xfrm>
            <a:off x="4518000" y="1941480"/>
            <a:ext cx="4363920" cy="3130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y taking part in the proces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ssment, students gain a dee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derstanding of topics, the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assessment and what they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ing in their own work. This help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ke them more aware of ‘w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rning is’ and thus see their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rning in this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could self- or peer- ma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mework or assess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could be done in pairs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ividually with a student-made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icial’ mark-sche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http://newsimg.bbc.co.uk/media/images/39228000/jpg/_39228663_marking203.jpg"/>
          <p:cNvPicPr/>
          <p:nvPr/>
        </p:nvPicPr>
        <p:blipFill>
          <a:blip r:embed="rId1"/>
          <a:stretch/>
        </p:blipFill>
        <p:spPr>
          <a:xfrm>
            <a:off x="4214880" y="2000160"/>
            <a:ext cx="4554360" cy="3409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king aims cl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t lesson objectives on the board at the beginning of the les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lk to students about why they are studying what they are study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xtualise short-term aims in long-term aims (e.g. analysing Shakespeare will contribute to a wider knowledge of the cultural canon and stronger analytical skills among other long term ai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eck with students that they are clear about the aims of the lesson/unit/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duce aims in conjunction with stud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www.cs.miami.edu/~tptp/Seminars/CASC/GIFS/Aims.JPG"/>
          <p:cNvPicPr/>
          <p:nvPr/>
        </p:nvPicPr>
        <p:blipFill>
          <a:blip r:embed="rId1"/>
          <a:stretch/>
        </p:blipFill>
        <p:spPr>
          <a:xfrm>
            <a:off x="4929120" y="1928880"/>
            <a:ext cx="3892680" cy="3016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Target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the lesson more purposeful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by setting targets a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ginning about what you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 are going to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can be referred to throug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and/or revisited in the plen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ould have to show 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have met targets in the ple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/or set targets for next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www.primeprinciple.co.uk/images/how_does/graphic.jpg"/>
          <p:cNvPicPr/>
          <p:nvPr/>
        </p:nvPicPr>
        <p:blipFill>
          <a:blip r:embed="rId1"/>
          <a:stretch/>
        </p:blipFill>
        <p:spPr>
          <a:xfrm>
            <a:off x="4714920" y="1825560"/>
            <a:ext cx="3771720" cy="3254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er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eacher leads the review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or unit using questioning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icit understanding from stud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cus could also fall up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fectiveness of the less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ting learning – i.e. can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 of ways that it could be alt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mprove their lear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eacher could model review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ng the lesson in relation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own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ttp://whitehead.mit.edu/news/paradigm/spring_2008/img/peer_review.jpg"/>
          <p:cNvPicPr/>
          <p:nvPr/>
        </p:nvPicPr>
        <p:blipFill>
          <a:blip r:embed="rId1"/>
          <a:stretch/>
        </p:blipFill>
        <p:spPr>
          <a:xfrm>
            <a:off x="4500720" y="1857240"/>
            <a:ext cx="4302000" cy="3103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review their own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ther in groups or individually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be done as a plenary,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-plenary or as an activity to hel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ing for future revision 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mainder of the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www.secondarydandt.org/data/images/width120/reviewing.jpg"/>
          <p:cNvPicPr/>
          <p:nvPr/>
        </p:nvPicPr>
        <p:blipFill>
          <a:blip r:embed="rId1"/>
          <a:stretch/>
        </p:blipFill>
        <p:spPr>
          <a:xfrm>
            <a:off x="5072040" y="1643040"/>
            <a:ext cx="3294000" cy="46674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ffic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traffic lights as a visual mean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wing understa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have red, amber and green cards which they show on their desks or in the air. (red = don’t understand, green = totally get it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self-assess using traffic lights. The teacher could then record these visually in their mark bo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er assess presentations etc. with traffic ligh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http://gocomplainontheinternet.com/wp-content/uploads/2008/11/traffic_light.gif"/>
          <p:cNvPicPr/>
          <p:nvPr/>
        </p:nvPicPr>
        <p:blipFill>
          <a:blip r:embed="rId1"/>
          <a:stretch/>
        </p:blipFill>
        <p:spPr>
          <a:xfrm>
            <a:off x="5429160" y="1571760"/>
            <a:ext cx="32688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lf-assessment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give themselves targ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d on their self-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learning goals c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rded somewhere and revisi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i.e. inside cover of work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could be compared to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s and the two brough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ensus if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http://www.primeprinciple.co.uk/images/how_does/graphic.jpg"/>
          <p:cNvPicPr/>
          <p:nvPr/>
        </p:nvPicPr>
        <p:blipFill>
          <a:blip r:embed="rId1"/>
          <a:stretch/>
        </p:blipFill>
        <p:spPr>
          <a:xfrm>
            <a:off x="4714920" y="1825560"/>
            <a:ext cx="3771720" cy="3254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stars and a w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eer assessment, ask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two stars and a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stars = 2 things that are g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piece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wish = something they can impro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make it even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http://www.pmbni.org.uk/img/photos/2stars.jpg"/>
          <p:cNvPicPr/>
          <p:nvPr/>
        </p:nvPicPr>
        <p:blipFill>
          <a:blip r:embed="rId1"/>
          <a:stretch/>
        </p:blipFill>
        <p:spPr>
          <a:xfrm>
            <a:off x="4714920" y="1500120"/>
            <a:ext cx="3751200" cy="4876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ticulate then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students the opportunit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iculate their thinking b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ing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 seconds silent thinking before any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storm in pairs first for 2-3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some thoughts down before answ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with your neighbour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http://www.nimblefingers.ie/shop/images/microsoft/drump0001.jpg"/>
          <p:cNvPicPr/>
          <p:nvPr/>
        </p:nvPicPr>
        <p:blipFill>
          <a:blip r:embed="rId1"/>
          <a:stretch/>
        </p:blipFill>
        <p:spPr>
          <a:xfrm>
            <a:off x="5143680" y="2000160"/>
            <a:ext cx="3276360" cy="3114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214200" y="2000160"/>
            <a:ext cx="8713800" cy="34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tudents write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udents ask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omment-only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Mid-unit assessmen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‘Might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Wait-tim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Open vs close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Exemplar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Student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Making aims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Lesson Target Set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Teacher Revie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Student Revie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Traffic Ligh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2 stars and a w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Self-assessment Targe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One-Sentence Summar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Articulate then Answ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Scene-Set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Tell your neighb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Idea Though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Bounc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Wait and recap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Incorrect Discuss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Muddiest Poin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Devising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Learning Journa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Redraf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Key featur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Invert the Qu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Improvement Guidanc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Comment Follow-up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Group feedbac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Peer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Thum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Teach Collabor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Traffic-Light Revis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Generate and Answ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Student Mark-Schem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Group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X and 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All you kno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Correc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Laminated Criter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Conveying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Think through Tal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Discuss Word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Communic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Thoughtful Dialogu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Feedback Sandw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What is good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Self-evalu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What is a ‘good’ question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Graphic Organis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5" action="ppaction://hlinksldjump"/>
              </a:rPr>
              <a:t>KW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6" action="ppaction://hlinksldjump"/>
              </a:rPr>
              <a:t>Talk Partn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7" action="ppaction://hlinksldjump"/>
              </a:rPr>
              <a:t>Post-I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8" action="ppaction://hlinksldjump"/>
              </a:rPr>
              <a:t>Response Partn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9" action="ppaction://hlinksldjump"/>
              </a:rPr>
              <a:t>Hands Dow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0" action="ppaction://hlinksldjump"/>
              </a:rPr>
              <a:t>Question 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1" action="ppaction://hlinksldjump"/>
              </a:rPr>
              <a:t>Regulating Learn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2" action="ppaction://hlinksldjump"/>
              </a:rPr>
              <a:t>A B C 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3" action="ppaction://hlinksldjump"/>
              </a:rPr>
              <a:t>Why is it best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4" action="ppaction://hlinksldjump"/>
              </a:rPr>
              <a:t>Show and Tel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5" action="ppaction://hlinksldjump"/>
              </a:rPr>
              <a:t>Active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6" action="ppaction://hlinksldjump"/>
              </a:rPr>
              <a:t>Long and Short Ter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7" action="ppaction://hlinksldjump"/>
              </a:rPr>
              <a:t>Minute Pap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8" action="ppaction://hlinksldjump"/>
              </a:rPr>
              <a:t>Enquiry Ques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9" action="ppaction://hlinksldjump"/>
              </a:rPr>
              <a:t>Smiley Fac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0" action="ppaction://hlinksldjump"/>
              </a:rPr>
              <a:t>Squ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4" descr=""/>
          <p:cNvPicPr/>
          <p:nvPr/>
        </p:nvPicPr>
        <p:blipFill>
          <a:blip r:embed="rId71"/>
          <a:stretch/>
        </p:blipFill>
        <p:spPr>
          <a:xfrm>
            <a:off x="1401840" y="-19080"/>
            <a:ext cx="62373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ene-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the scene for the lesson by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ig, open question or problem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ing task that requires abs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ing skills. Anticipate respon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follow-up so as to work th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A lesson on the Vietnam W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begin with the ques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Americans think they fight wars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ttp://th09.deviantart.net/fs39/300W/i/2008/323/4/5/Commission__Setting_the_scene_by_NikkieCole.png"/>
          <p:cNvPicPr/>
          <p:nvPr/>
        </p:nvPicPr>
        <p:blipFill>
          <a:blip r:embed="rId1"/>
          <a:stretch/>
        </p:blipFill>
        <p:spPr>
          <a:xfrm>
            <a:off x="4965840" y="1643040"/>
            <a:ext cx="3630600" cy="43578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ll your neighb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‘tell their neighbour’ 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ns of articulating their thou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a question, give thinking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then ask students to tell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ighbour their thou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l students what the new topic is and then ask them to tell their neighbour everything they know abou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www.dreamstime.com/whispering-thumb3002293.jpg"/>
          <p:cNvPicPr/>
          <p:nvPr/>
        </p:nvPicPr>
        <p:blipFill>
          <a:blip r:embed="rId1"/>
          <a:stretch/>
        </p:blipFill>
        <p:spPr>
          <a:xfrm>
            <a:off x="4827600" y="1766880"/>
            <a:ext cx="3917880" cy="3305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dea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you have received an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 question, open up the thin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hind it by asking what others th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id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“What do others think about _________’s idea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porteightyeight.files.wordpress.com/2009/06/bright-idea.jpg"/>
          <p:cNvPicPr/>
          <p:nvPr/>
        </p:nvPicPr>
        <p:blipFill>
          <a:blip r:embed="rId1"/>
          <a:stretch/>
        </p:blipFill>
        <p:spPr>
          <a:xfrm>
            <a:off x="3857760" y="2714760"/>
            <a:ext cx="4952880" cy="37144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ou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unce answers around the room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on understanding and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develop stronger reaso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 of 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immy, what do you think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ra’s answer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ra, how could you devel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l’s answer to include more detail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l, how might you combine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’ve heard into a single answer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topendsports.com/clipart/pics/albums/basketball/bouncing_ball.gif"/>
          <p:cNvPicPr/>
          <p:nvPr/>
        </p:nvPicPr>
        <p:blipFill>
          <a:blip r:embed="rId1"/>
          <a:srcRect l="0" t="0" r="7738" b="0"/>
          <a:stretch/>
        </p:blipFill>
        <p:spPr>
          <a:xfrm>
            <a:off x="4560840" y="1900080"/>
            <a:ext cx="4094280" cy="41720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it and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it for students to draw out mo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key words you are asking for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reframe the question – asking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ynthesis which recaps the wh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by joining all these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o a single coherent answ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raph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www.mrs-smiths-class.com/recap.jpg"/>
          <p:cNvPicPr/>
          <p:nvPr/>
        </p:nvPicPr>
        <p:blipFill>
          <a:blip r:embed="rId1"/>
          <a:stretch/>
        </p:blipFill>
        <p:spPr>
          <a:xfrm>
            <a:off x="4857840" y="20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correct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incorrect answers 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poi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her then dismissing some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ause it is wrong, or saying ‘that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esting’ etc. Us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conception in reasoning to dra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out into the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leads to improving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conceived reasoning and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osphere in which it is OK to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http://www.junkscience.com/JSJ_Course/jsjudocourse/wrong.jpg"/>
          <p:cNvPicPr/>
          <p:nvPr/>
        </p:nvPicPr>
        <p:blipFill>
          <a:blip r:embed="rId1"/>
          <a:stretch/>
        </p:blipFill>
        <p:spPr>
          <a:xfrm>
            <a:off x="4786200" y="1714680"/>
            <a:ext cx="3876840" cy="4311360"/>
          </a:xfrm>
          <a:prstGeom prst="rect">
            <a:avLst/>
          </a:prstGeom>
          <a:ln w="0">
            <a:noFill/>
          </a:ln>
        </p:spPr>
      </p:pic>
      <p:sp>
        <p:nvSpPr>
          <p:cNvPr id="140" name="Oval Callout 8"/>
          <p:cNvSpPr/>
          <p:nvPr/>
        </p:nvSpPr>
        <p:spPr>
          <a:xfrm rot="3146400">
            <a:off x="6710040" y="2158560"/>
            <a:ext cx="2152440" cy="17686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7143840" y="2571840"/>
            <a:ext cx="135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’m glad that’s the wrong answer… let’s discuss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is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ise questions that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llenge common miscon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conflict that require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ore ambiguity and encourage discussion and clar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http://images.suite101.com/966420_com_question.jpg"/>
          <p:cNvPicPr/>
          <p:nvPr/>
        </p:nvPicPr>
        <p:blipFill>
          <a:blip r:embed="rId1"/>
          <a:stretch/>
        </p:blipFill>
        <p:spPr>
          <a:xfrm>
            <a:off x="4786200" y="1714680"/>
            <a:ext cx="3953160" cy="39528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a learning journal in wh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an reflect on and re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learning. It could include ple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, a target setting chart, ai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goal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http://www.darton.edu/programs/learning-support/images/journal.gif"/>
          <p:cNvPicPr/>
          <p:nvPr/>
        </p:nvPicPr>
        <p:blipFill>
          <a:blip r:embed="rId1"/>
          <a:stretch/>
        </p:blipFill>
        <p:spPr>
          <a:xfrm>
            <a:off x="5222880" y="1714680"/>
            <a:ext cx="3921120" cy="46846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draf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lesson time to redraft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allows students time to focu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eedback for improvement 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been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reinforces the valu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edback and allows them to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it in a supportive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http://www.baldworm.co.uk/images/placard_one.jpg"/>
          <p:cNvPicPr/>
          <p:nvPr/>
        </p:nvPicPr>
        <p:blipFill>
          <a:blip r:embed="rId1"/>
          <a:stretch/>
        </p:blipFill>
        <p:spPr>
          <a:xfrm>
            <a:off x="4738680" y="2357280"/>
            <a:ext cx="1333440" cy="1000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http://www.baldworm.co.uk/images/placard_two.jpg"/>
          <p:cNvPicPr/>
          <p:nvPr/>
        </p:nvPicPr>
        <p:blipFill>
          <a:blip r:embed="rId2"/>
          <a:stretch/>
        </p:blipFill>
        <p:spPr>
          <a:xfrm>
            <a:off x="7286760" y="3500280"/>
            <a:ext cx="952200" cy="71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www.baldworm.co.uk/images/placard_three.jpg"/>
          <p:cNvPicPr/>
          <p:nvPr/>
        </p:nvPicPr>
        <p:blipFill>
          <a:blip r:embed="rId3"/>
          <a:stretch/>
        </p:blipFill>
        <p:spPr>
          <a:xfrm>
            <a:off x="5572080" y="5572080"/>
            <a:ext cx="952560" cy="714600"/>
          </a:xfrm>
          <a:prstGeom prst="rect">
            <a:avLst/>
          </a:prstGeom>
          <a:ln w="0">
            <a:noFill/>
          </a:ln>
        </p:spPr>
      </p:pic>
      <p:sp>
        <p:nvSpPr>
          <p:cNvPr id="156" name="Down Arrow 9"/>
          <p:cNvSpPr/>
          <p:nvPr/>
        </p:nvSpPr>
        <p:spPr>
          <a:xfrm rot="18099600">
            <a:off x="6555240" y="2986560"/>
            <a:ext cx="35712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0"/>
          <p:cNvSpPr/>
          <p:nvPr/>
        </p:nvSpPr>
        <p:spPr>
          <a:xfrm rot="2329800">
            <a:off x="6881760" y="4183200"/>
            <a:ext cx="357120" cy="15825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designing written tasks to 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ongside oral work, intend for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velop and show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key features of what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lear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http://regmedia.co.uk/2007/02/12/rim_bb_8800_1.jpg"/>
          <p:cNvPicPr/>
          <p:nvPr/>
        </p:nvPicPr>
        <p:blipFill>
          <a:blip r:embed="rId1"/>
          <a:stretch/>
        </p:blipFill>
        <p:spPr>
          <a:xfrm>
            <a:off x="4357800" y="3071880"/>
            <a:ext cx="4286160" cy="3448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s writ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171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example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bout what they would like to know on a new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ask the teacher or other students in order to assess their lear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demonstrate their learning/misconceptions/areas they would like to further exp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classroom could have a question bo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ere students drop questions a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nd of a less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, a plenary could involve students wr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questions that the class then work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gether, or forms the basis of the next les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www.ljmu.ac.uk/Images_Everyone/signingdocument.jpg"/>
          <p:cNvPicPr/>
          <p:nvPr/>
        </p:nvPicPr>
        <p:blipFill>
          <a:blip r:embed="rId1"/>
          <a:stretch/>
        </p:blipFill>
        <p:spPr>
          <a:xfrm>
            <a:off x="5072040" y="1357200"/>
            <a:ext cx="3228840" cy="5010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rovement Gui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making comments on pupils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, treat them like gui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wing how the pupil can impr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this by asking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in the same way when pe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ing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the notion of guida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it differs from other typ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haviour (i.e. prescrip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onishment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http://www.insidefurniture.com/insidefurniture/images/guidance.jpg"/>
          <p:cNvPicPr/>
          <p:nvPr/>
        </p:nvPicPr>
        <p:blipFill>
          <a:blip r:embed="rId1"/>
          <a:stretch/>
        </p:blipFill>
        <p:spPr>
          <a:xfrm>
            <a:off x="4572000" y="1652760"/>
            <a:ext cx="4344840" cy="42447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en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students opportunities to fol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comments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time in the lesson to talk to individual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a written dialogue in the students’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a comment tracker or targets sheet to formalise the dialogue in a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chfs.ky.gov/NR/rdonlyres/ECCA0B2A-9313-4A81-8F6E-4B0012EC34E8/0/FollowSignsArrows.jpg"/>
          <p:cNvPicPr/>
          <p:nvPr/>
        </p:nvPicPr>
        <p:blipFill>
          <a:blip r:embed="rId1"/>
          <a:stretch/>
        </p:blipFill>
        <p:spPr>
          <a:xfrm>
            <a:off x="4900680" y="2043000"/>
            <a:ext cx="3895560" cy="38862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up feedback to a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ing peer-assessment of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help make the teacher awar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rning needs in a manageabl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 group feeds back then it dra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attention and 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that has alread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ed and sorted (meaning l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tition for the teach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http://www.kdgp.com.au/images/Feedback.jpg"/>
          <p:cNvPicPr/>
          <p:nvPr/>
        </p:nvPicPr>
        <p:blipFill>
          <a:blip r:embed="rId1"/>
          <a:stretch/>
        </p:blipFill>
        <p:spPr>
          <a:xfrm>
            <a:off x="4572000" y="1428840"/>
            <a:ext cx="4476600" cy="44766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udents mark each others’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ccording to assessment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ncourages reflection and thought 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learning as well as allowing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ee model work and reason p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pportunities to do this through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dividual lessons and schem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http://newsimg.bbc.co.uk/media/images/39228000/jpg/_39228663_marking203.jpg"/>
          <p:cNvPicPr/>
          <p:nvPr/>
        </p:nvPicPr>
        <p:blipFill>
          <a:blip r:embed="rId1"/>
          <a:stretch/>
        </p:blipFill>
        <p:spPr>
          <a:xfrm>
            <a:off x="4570560" y="2266920"/>
            <a:ext cx="3841560" cy="2876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u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class understanding of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are teaching by asking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how their thum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up = I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half way = sor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down = I don’t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ist2_4796726-thumbs-up-icon.jpg image by senordemais"/>
          <p:cNvPicPr/>
          <p:nvPr/>
        </p:nvPicPr>
        <p:blipFill>
          <a:blip r:embed="rId1"/>
          <a:stretch/>
        </p:blipFill>
        <p:spPr>
          <a:xfrm>
            <a:off x="5072040" y="1857240"/>
            <a:ext cx="3619440" cy="3619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er assessment requires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 collaboratively. Indeed, AfL i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laborative enterprise. Therefo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icitly teach skills of collabo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ocess can be assist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ng collaboration with pup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making it visible as a par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http://nextup.files.wordpress.com/2007/09/collaboration.jpg"/>
          <p:cNvPicPr/>
          <p:nvPr/>
        </p:nvPicPr>
        <p:blipFill>
          <a:blip r:embed="rId1"/>
          <a:stretch/>
        </p:blipFill>
        <p:spPr>
          <a:xfrm>
            <a:off x="5191200" y="197640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ffic-Light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vising a topic or subject,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 the different areas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and ask them to traffic l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rding to their grasp of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quently, students sh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le to target their revision 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efully and engage in it active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her than simply review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rything they have done or 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sively over their entire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http://ericshepherd.files.wordpress.com/2009/05/image14.png"/>
          <p:cNvPicPr/>
          <p:nvPr/>
        </p:nvPicPr>
        <p:blipFill>
          <a:blip r:embed="rId1"/>
          <a:stretch/>
        </p:blipFill>
        <p:spPr>
          <a:xfrm>
            <a:off x="5072040" y="1500120"/>
            <a:ext cx="3521160" cy="40719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te and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preparing for exams,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te their own question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practice answering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akes learners think explici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underlying structur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, as well as the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they are being ask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ipulate. Form as well as fun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http://www.powerauthority.on.ca/Storage.asp?StorageID=1609&amp;SiteLanguageID=1"/>
          <p:cNvPicPr/>
          <p:nvPr/>
        </p:nvPicPr>
        <p:blipFill>
          <a:blip r:embed="rId1"/>
          <a:stretch/>
        </p:blipFill>
        <p:spPr>
          <a:xfrm>
            <a:off x="5429160" y="2286000"/>
            <a:ext cx="3301920" cy="33814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Mark-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to produce their 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-schemes working individually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groups. They can then peer-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-assess work in accor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se sche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lk about the purpose of a mark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me with students – judgem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, standardisatio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http://homepages.which.net/~j.fish/images/pempro.gif"/>
          <p:cNvPicPr/>
          <p:nvPr/>
        </p:nvPicPr>
        <p:blipFill>
          <a:blip r:embed="rId1"/>
          <a:stretch/>
        </p:blipFill>
        <p:spPr>
          <a:xfrm>
            <a:off x="5429160" y="1928880"/>
            <a:ext cx="3057480" cy="37526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work in small group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 on answers – when  test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turned or in other situ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of agreeing sh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e reasoning over the validit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sensus answer, as well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soned negation of misconce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wrong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ttp://www.screenhead.com/wp-content/uploads/2008/10/jackson5.jpg"/>
          <p:cNvPicPr/>
          <p:nvPr/>
        </p:nvPicPr>
        <p:blipFill>
          <a:blip r:embed="rId1"/>
          <a:stretch/>
        </p:blipFill>
        <p:spPr>
          <a:xfrm>
            <a:off x="5143680" y="2143080"/>
            <a:ext cx="3504960" cy="3162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s ask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92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opportunities for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questions. This could be of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ers, of the teacher or as a me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velop discu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‘question box’ for written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rs a different mean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 for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 time for students to 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s about pieces of work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s open up assessmen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iminate ambig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imgs.sfgate.com/c/pictures/2005/09/20/ba_bumschools20_073.jpg"/>
          <p:cNvPicPr/>
          <p:nvPr/>
        </p:nvPicPr>
        <p:blipFill>
          <a:blip r:embed="rId1"/>
          <a:srcRect l="0" t="0" r="0" b="4939"/>
          <a:stretch/>
        </p:blipFill>
        <p:spPr>
          <a:xfrm>
            <a:off x="4071960" y="1928880"/>
            <a:ext cx="4940280" cy="3036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 through T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lking allows students to articu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thoughts and thus to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e thinking through tal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d group/pai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ling by teacher an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mall group work increases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face area’ of talk in the class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opposed to whole cl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ttp://1.bp.blogspot.com/_lpT5VbPe0pc/SJ60e-b1m5I/AAAAAAAAAKg/rQ4fk0uvvg8/s400/ist2_4395316-chatting-heads.jpg"/>
          <p:cNvPicPr/>
          <p:nvPr/>
        </p:nvPicPr>
        <p:blipFill>
          <a:blip r:embed="rId1"/>
          <a:stretch/>
        </p:blipFill>
        <p:spPr>
          <a:xfrm>
            <a:off x="5214960" y="2143080"/>
            <a:ext cx="3619440" cy="36194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ert the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ead of asking a question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s factual recall, invert i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 explicit reas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France a democracy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es it mean for a country to be a democracy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http://www.gerryriskin.com/Question%20Mark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87520" cy="43815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 and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why  X is an example of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is an apple an example of a fru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is a fox an example of a mamm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ing in this way avoids fac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all and asks for the underly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soning to be made expli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http://wolfet.co.uk/images/wolfet_european_toxic_coldplay_x_and_y.jpg"/>
          <p:cNvPicPr/>
          <p:nvPr/>
        </p:nvPicPr>
        <p:blipFill>
          <a:blip r:embed="rId1"/>
          <a:stretch/>
        </p:blipFill>
        <p:spPr>
          <a:xfrm>
            <a:off x="5000760" y="1714680"/>
            <a:ext cx="3714480" cy="37144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l you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udents write down everyth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know about ________ at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rt of the un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teacher can then teach the un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ordingly, using exis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nowledge and avoiding repet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http://www.cite.auckland.ac.nz/content/images/pyramid.jpg"/>
          <p:cNvPicPr/>
          <p:nvPr/>
        </p:nvPicPr>
        <p:blipFill>
          <a:blip r:embed="rId1"/>
          <a:stretch/>
        </p:blipFill>
        <p:spPr>
          <a:xfrm>
            <a:off x="4929120" y="2286000"/>
            <a:ext cx="3952800" cy="30956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inforce the focus on redrafting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ent-only marking by insisting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ing evidence of stu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ctions on their own work b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king at it (have to allow tim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http://gizmodo.com/assets/resources/2008/03/BrickCorrectionTap_05_640x.jpg"/>
          <p:cNvPicPr/>
          <p:nvPr/>
        </p:nvPicPr>
        <p:blipFill>
          <a:blip r:embed="rId1"/>
          <a:stretch/>
        </p:blipFill>
        <p:spPr>
          <a:xfrm>
            <a:off x="4929120" y="242892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http://www.global-b2b-network.com/direct/dbimage/50137007/A4_Laminator.jpg"/>
          <p:cNvPicPr/>
          <p:nvPr/>
        </p:nvPicPr>
        <p:blipFill>
          <a:blip r:embed="rId1"/>
          <a:stretch/>
        </p:blipFill>
        <p:spPr>
          <a:xfrm>
            <a:off x="3714840" y="157176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minated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laminated, student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iendly assessment crit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veying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a means of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ment to convey progress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and thus make what th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doing more meaning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 learning between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a learning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 to past targets and highlight where the student is achieving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ve a target chart where it is visible how the student has prog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 assessment to student goal-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://www.asconveyorsystems.co.uk/images/Dorner%20Conveyor%20Belt%20Vacuum%201.jpg"/>
          <p:cNvPicPr/>
          <p:nvPr/>
        </p:nvPicPr>
        <p:blipFill>
          <a:blip r:embed="rId1"/>
          <a:stretch/>
        </p:blipFill>
        <p:spPr>
          <a:xfrm>
            <a:off x="4643280" y="3214800"/>
            <a:ext cx="3810240" cy="262872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7" descr=""/>
          <p:cNvPicPr/>
          <p:nvPr/>
        </p:nvPicPr>
        <p:blipFill>
          <a:blip r:embed="rId2"/>
          <a:stretch/>
        </p:blipFill>
        <p:spPr>
          <a:xfrm>
            <a:off x="5297400" y="3206880"/>
            <a:ext cx="3584520" cy="20667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engaged in discussion take 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ds and look at them specific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how they are being used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y ambigui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everyone using the word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e wa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http://bermudaonion.files.wordpress.com/2009/01/vocabulary.gif"/>
          <p:cNvPicPr/>
          <p:nvPr/>
        </p:nvPicPr>
        <p:blipFill>
          <a:blip r:embed="rId1"/>
          <a:stretch/>
        </p:blipFill>
        <p:spPr>
          <a:xfrm>
            <a:off x="4357800" y="2714760"/>
            <a:ext cx="4381560" cy="2809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to communicate thin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 different mediums – not j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ing; drawing, drama, map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ulptur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edium is the messag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fore circumscribes to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t how communication can t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ce. Using alternative mediu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the teacher to ‘see’ students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ing from different ang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http://www.ampro.com/assets/images/Communication_000.jpg"/>
          <p:cNvPicPr/>
          <p:nvPr/>
        </p:nvPicPr>
        <p:blipFill>
          <a:blip r:embed="rId1"/>
          <a:stretch/>
        </p:blipFill>
        <p:spPr>
          <a:xfrm>
            <a:off x="4564080" y="2057400"/>
            <a:ext cx="4079880" cy="29494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oughtful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alogue between teacher and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uld be thoughtful, reflect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cussed to evoke and expl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derstanding, and conducted so that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pils have an opportunity to exp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ir ide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Page 12, Inside the Black Box, Paul Black &amp; Dylan William, nferNelson, 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scuss the quality of dialogu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udents and ask them to articulate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s purpose is, why, and how (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cessary) it may be improv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http://www.wao.org.my/graphics/dialogue.jpg"/>
          <p:cNvPicPr/>
          <p:nvPr/>
        </p:nvPicPr>
        <p:blipFill>
          <a:blip r:embed="rId1"/>
          <a:stretch/>
        </p:blipFill>
        <p:spPr>
          <a:xfrm>
            <a:off x="5072040" y="1630440"/>
            <a:ext cx="3571920" cy="3690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ent-only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-only marking provides stud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a focus for progression instead of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ward or punishment for their ego (as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ade do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s could be made in books, i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ble at the front of books, in a lear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ary or journal. The latter are helpful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acher and student to track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ession of comments and s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rov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s should make it clear how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 can impr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activities and work with feedback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nd – let the design assist the pro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://www.ltscotland.org.uk/learningaboutlearning/images/abbey_teacherwork_tcm4-419188.png"/>
          <p:cNvPicPr/>
          <p:nvPr/>
        </p:nvPicPr>
        <p:blipFill>
          <a:blip r:embed="rId1"/>
          <a:stretch/>
        </p:blipFill>
        <p:spPr>
          <a:xfrm>
            <a:off x="4429080" y="2500200"/>
            <a:ext cx="4429080" cy="2952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Sandw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can be deliver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ways, two feed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wiches’ are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ructive criticism with explanation of how to im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ual statement – I liked….becaus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w/Next ti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statement e.g. a question based on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http://www.kellyskindergarten.com/Games/GamestoMake/images/sandwich.JPG"/>
          <p:cNvPicPr/>
          <p:nvPr/>
        </p:nvPicPr>
        <p:blipFill>
          <a:blip r:embed="rId1"/>
          <a:stretch/>
        </p:blipFill>
        <p:spPr>
          <a:xfrm>
            <a:off x="4286160" y="20001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nd time ensuring that there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nsus between yourself and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pils over what makes a piec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‘good’, and how they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cted to achieve it. Use ques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 a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you tell me what makes a pie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work good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feel about comments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always know what you need to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/think about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know when you have don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’ piece of work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http://www.betterproductdesign.net/images/design_team4.gif"/>
          <p:cNvPicPr/>
          <p:nvPr/>
        </p:nvPicPr>
        <p:blipFill>
          <a:blip r:embed="rId1"/>
          <a:stretch/>
        </p:blipFill>
        <p:spPr>
          <a:xfrm>
            <a:off x="4357800" y="1214280"/>
            <a:ext cx="46512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-evaluation involves learn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, whereas self-assessment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 learn. To train pupils in self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on, use questions such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nk about what has happened whe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has take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really made you think? What did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difficul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need more help wit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you pleased abou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have you learnt new about 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would you change the lear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ity to suit another clas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acher can model answers to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 show the pupils how to self-eval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http://images.businessweek.com/ss/09/01/0130_career_stagnation/image/ss_12.jpg"/>
          <p:cNvPicPr/>
          <p:nvPr/>
        </p:nvPicPr>
        <p:blipFill>
          <a:blip r:embed="rId1"/>
          <a:stretch/>
        </p:blipFill>
        <p:spPr>
          <a:xfrm>
            <a:off x="4572000" y="2643120"/>
            <a:ext cx="4245120" cy="2476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‘good’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with students what make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’ question. The process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ly show them the dif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open and closed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an then come up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on a topic and 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re best, and then move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and answer the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http://crescendodesignblog.files.wordpress.com/2009/01/kansascity-statue-kcmo-1824740-o.jpg"/>
          <p:cNvPicPr/>
          <p:nvPr/>
        </p:nvPicPr>
        <p:blipFill>
          <a:blip r:embed="rId1"/>
          <a:stretch/>
        </p:blipFill>
        <p:spPr>
          <a:xfrm>
            <a:off x="4071960" y="3429000"/>
            <a:ext cx="4924440" cy="32608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56880" y="-360"/>
            <a:ext cx="507204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 Organi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0040" y="571320"/>
            <a:ext cx="79725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aphic organisers to help pupils self-ass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142920" y="1071720"/>
            <a:ext cx="2657520" cy="27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3000240" y="1071720"/>
            <a:ext cx="2428920" cy="298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tretch/>
        </p:blipFill>
        <p:spPr>
          <a:xfrm>
            <a:off x="142920" y="4143240"/>
            <a:ext cx="2681280" cy="1981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4"/>
          <a:stretch/>
        </p:blipFill>
        <p:spPr>
          <a:xfrm>
            <a:off x="6000840" y="1143000"/>
            <a:ext cx="2676600" cy="2676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"/>
          <p:cNvPicPr/>
          <p:nvPr/>
        </p:nvPicPr>
        <p:blipFill>
          <a:blip r:embed="rId5"/>
          <a:stretch/>
        </p:blipFill>
        <p:spPr>
          <a:xfrm>
            <a:off x="2928960" y="3929040"/>
            <a:ext cx="2627280" cy="2257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6"/>
          <a:stretch/>
        </p:blipFill>
        <p:spPr>
          <a:xfrm>
            <a:off x="3071880" y="6210360"/>
            <a:ext cx="2467080" cy="647640"/>
          </a:xfrm>
          <a:prstGeom prst="rect">
            <a:avLst/>
          </a:prstGeom>
          <a:ln w="0">
            <a:noFill/>
          </a:ln>
        </p:spPr>
      </p:pic>
      <p:sp>
        <p:nvSpPr>
          <p:cNvPr id="268" name="Straight Connector 11"/>
          <p:cNvSpPr/>
          <p:nvPr/>
        </p:nvSpPr>
        <p:spPr>
          <a:xfrm flipH="1">
            <a:off x="142560" y="378612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2"/>
          <p:cNvSpPr/>
          <p:nvPr/>
        </p:nvSpPr>
        <p:spPr>
          <a:xfrm flipH="1">
            <a:off x="1428480" y="378612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3"/>
          <p:cNvSpPr/>
          <p:nvPr/>
        </p:nvSpPr>
        <p:spPr>
          <a:xfrm flipH="1">
            <a:off x="142560" y="614376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4"/>
          <p:cNvSpPr/>
          <p:nvPr/>
        </p:nvSpPr>
        <p:spPr>
          <a:xfrm flipH="1">
            <a:off x="1428480" y="614376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16"/>
          <p:cNvSpPr/>
          <p:nvPr/>
        </p:nvSpPr>
        <p:spPr>
          <a:xfrm flipV="1">
            <a:off x="2786040" y="414288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8"/>
          <p:cNvSpPr/>
          <p:nvPr/>
        </p:nvSpPr>
        <p:spPr>
          <a:xfrm flipV="1">
            <a:off x="142920" y="414288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20"/>
          <p:cNvSpPr/>
          <p:nvPr/>
        </p:nvSpPr>
        <p:spPr>
          <a:xfrm>
            <a:off x="3000240" y="256536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21"/>
          <p:cNvSpPr/>
          <p:nvPr/>
        </p:nvSpPr>
        <p:spPr>
          <a:xfrm>
            <a:off x="3000240" y="1071720"/>
            <a:ext cx="0" cy="150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23"/>
          <p:cNvSpPr/>
          <p:nvPr/>
        </p:nvSpPr>
        <p:spPr>
          <a:xfrm>
            <a:off x="5429160" y="256536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4"/>
          <p:cNvSpPr/>
          <p:nvPr/>
        </p:nvSpPr>
        <p:spPr>
          <a:xfrm>
            <a:off x="5429160" y="1071720"/>
            <a:ext cx="0" cy="150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5"/>
          <p:cNvSpPr/>
          <p:nvPr/>
        </p:nvSpPr>
        <p:spPr>
          <a:xfrm>
            <a:off x="6000840" y="2637000"/>
            <a:ext cx="0" cy="11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6"/>
          <p:cNvSpPr/>
          <p:nvPr/>
        </p:nvSpPr>
        <p:spPr>
          <a:xfrm>
            <a:off x="6000840" y="1143000"/>
            <a:ext cx="0" cy="150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30"/>
          <p:cNvSpPr/>
          <p:nvPr/>
        </p:nvSpPr>
        <p:spPr>
          <a:xfrm>
            <a:off x="6000840" y="3786120"/>
            <a:ext cx="26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33"/>
          <p:cNvSpPr/>
          <p:nvPr/>
        </p:nvSpPr>
        <p:spPr>
          <a:xfrm>
            <a:off x="5572080" y="54230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4"/>
          <p:cNvSpPr/>
          <p:nvPr/>
        </p:nvSpPr>
        <p:spPr>
          <a:xfrm>
            <a:off x="5572080" y="3929040"/>
            <a:ext cx="0" cy="150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7"/>
          <p:cNvSpPr/>
          <p:nvPr/>
        </p:nvSpPr>
        <p:spPr>
          <a:xfrm>
            <a:off x="5929200" y="5429160"/>
            <a:ext cx="3214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 these are taken from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aia.org.uk/pdf/Publications/AAIAformat4.pdf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page 19)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8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beginning of a topic pupils creat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with three column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K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Want To K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Have Lear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begin by brainstorming and filling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irst two columns and then 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ird at the end of the unit (or re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out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– extra column ‘How Will I Learn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8" descr="http://www.educationtechnologies.com/images/3kids_kwl03s.gif"/>
          <p:cNvPicPr/>
          <p:nvPr/>
        </p:nvPicPr>
        <p:blipFill>
          <a:blip r:embed="rId1"/>
          <a:stretch/>
        </p:blipFill>
        <p:spPr>
          <a:xfrm>
            <a:off x="4938840" y="1785960"/>
            <a:ext cx="3733560" cy="4000320"/>
          </a:xfrm>
          <a:prstGeom prst="rect">
            <a:avLst/>
          </a:prstGeom>
          <a:ln w="0">
            <a:noFill/>
          </a:ln>
        </p:spPr>
      </p:pic>
      <p:sp>
        <p:nvSpPr>
          <p:cNvPr id="288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lenary or a starter referring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st lesson, pupils share with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ew things they have lear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y found 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y found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they would like to learn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http://www.onelovesouthernafrica.org/wp-content/uploads/2009/01/talk.jpg"/>
          <p:cNvPicPr/>
          <p:nvPr/>
        </p:nvPicPr>
        <p:blipFill>
          <a:blip r:embed="rId1"/>
          <a:stretch/>
        </p:blipFill>
        <p:spPr>
          <a:xfrm>
            <a:off x="4857840" y="2071800"/>
            <a:ext cx="3740040" cy="37400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ost-it notes to evaluat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, pairs or individuals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lear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found eas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found difficu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I want to know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http://www.designcouncil.org.uk/DCImages/About%20Design/Business%20Essentials/Invention/Post-It%20notes%20LRG.jpg"/>
          <p:cNvPicPr/>
          <p:nvPr/>
        </p:nvPicPr>
        <p:blipFill>
          <a:blip r:embed="rId1"/>
          <a:stretch/>
        </p:blipFill>
        <p:spPr>
          <a:xfrm>
            <a:off x="4643280" y="1857240"/>
            <a:ext cx="3895920" cy="38959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ed or partnership oral mar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pils invite a partner or a group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or comment on their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t to be effective, students sh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ware of learning objectiv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criteria. They should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eciate the role of a 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 – to offer positiv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 feedback ar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could be given prom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to ask the person who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e the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http://www.iqpc.com/uploadedImages/Training/Asia_Training/The_Gateway/Assets/111285.JPG"/>
          <p:cNvPicPr/>
          <p:nvPr/>
        </p:nvPicPr>
        <p:blipFill>
          <a:blip r:embed="rId1"/>
          <a:stretch/>
        </p:blipFill>
        <p:spPr>
          <a:xfrm>
            <a:off x="5643720" y="1500120"/>
            <a:ext cx="2752560" cy="42674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s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 pupils they should only raise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 to ask a question, not to answer 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acher then chooses pupil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, therefore gaining information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ther everyone is lear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lasstools.n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fruit mach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e on here where you can inp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s, save it and play it to choose pup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ran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names on lollipop sticks and pull 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random to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numbers on balls or counters t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lly to register or seating position and 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with every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http://www.samstoybox.com/toypics/HandsDownBox.jpg"/>
          <p:cNvPicPr/>
          <p:nvPr/>
        </p:nvPicPr>
        <p:blipFill>
          <a:blip r:embed="rId2"/>
          <a:stretch/>
        </p:blipFill>
        <p:spPr>
          <a:xfrm>
            <a:off x="4572000" y="1857240"/>
            <a:ext cx="4362480" cy="30099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d-unit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ing an assessment at the end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 may not provide time for you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 over areas student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ggled with, or in which ther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 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ing assessment during a unit (i.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5 of 7) allows time to revie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lect and re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gives the teache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to focus explicitly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s of weak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evi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carrieanddanielle.com/wp-content/uploads/2008/07/grouse-grind-three-quarter-mark.jpg"/>
          <p:cNvPicPr/>
          <p:nvPr/>
        </p:nvPicPr>
        <p:blipFill>
          <a:blip r:embed="rId1"/>
          <a:stretch/>
        </p:blipFill>
        <p:spPr>
          <a:xfrm>
            <a:off x="4572000" y="22860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Question 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e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you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you explain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ight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http://grandpacliff.com/InvSp/Img-Inv/Img-JapKnot/JapKnot-stems-3133-50-pt.jpg"/>
          <p:cNvPicPr/>
          <p:nvPr/>
        </p:nvPicPr>
        <p:blipFill>
          <a:blip r:embed="rId1"/>
          <a:stretch/>
        </p:blipFill>
        <p:spPr>
          <a:xfrm>
            <a:off x="5072040" y="1428840"/>
            <a:ext cx="3638520" cy="46861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lating through the room whil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are engaged in an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the teacher can coll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learning, emplo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assessment strategi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e where 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http://3.bp.blogspot.com/_e-NZkYgfbbQ/SFQrXTxvAGI/AAAAAAAAB-A/TD6jbKx0boc/s400/Warren_G_-_Regulate_G_Funk_Era_-_Front.jpg"/>
          <p:cNvPicPr/>
          <p:nvPr/>
        </p:nvPicPr>
        <p:blipFill>
          <a:blip r:embed="rId1"/>
          <a:srcRect l="0" t="0" r="0" b="13748"/>
          <a:stretch/>
        </p:blipFill>
        <p:spPr>
          <a:xfrm>
            <a:off x="4929120" y="1785960"/>
            <a:ext cx="3810240" cy="32860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 C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minate a set of cards so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 of the class has four,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,C and D written on them. As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with four answer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pils can show you their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 them not to look at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’s response so as to co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http://api.ning.com/files/WdN1Abk4ruK5tQejqnN6d6*Yz7XXWiEfSmxJrMW5tDJ0Ssi-DPxp-oIQQuuCoZMC8tLJza3LxhTUhnZD63jWQbyL1Ncae-3X/ABCD.jpg"/>
          <p:cNvPicPr/>
          <p:nvPr/>
        </p:nvPicPr>
        <p:blipFill>
          <a:blip r:embed="rId1"/>
          <a:stretch/>
        </p:blipFill>
        <p:spPr>
          <a:xfrm>
            <a:off x="4572000" y="2000160"/>
            <a:ext cx="4276800" cy="386244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b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omework ask students to 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best piece of work and then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you why it is their best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nation could refer to su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, levels, target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ttp://newsimg.bbc.co.uk/media/images/40953000/jpg/_40953824_best_ni_1971_pa.jpg"/>
          <p:cNvPicPr/>
          <p:nvPr/>
        </p:nvPicPr>
        <p:blipFill>
          <a:blip r:embed="rId1"/>
          <a:stretch/>
        </p:blipFill>
        <p:spPr>
          <a:xfrm>
            <a:off x="3643200" y="3073320"/>
            <a:ext cx="5248440" cy="37846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and T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ini-whiteboards so that 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can write or draw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and show it to you (or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s) immedi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http://www.janakenshop.co.uk/ekmps/shops/janaken/images/mwbuh.jpg"/>
          <p:cNvPicPr/>
          <p:nvPr/>
        </p:nvPicPr>
        <p:blipFill>
          <a:blip r:embed="rId1"/>
          <a:srcRect l="1594" t="3193" r="2660" b="2660"/>
          <a:stretch/>
        </p:blipFill>
        <p:spPr>
          <a:xfrm>
            <a:off x="4143240" y="1576440"/>
            <a:ext cx="4857840" cy="47768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http://www.dsf.health.state.pa.us/health/lib/health/GoActivePMSColors1.jpg"/>
          <p:cNvPicPr/>
          <p:nvPr/>
        </p:nvPicPr>
        <p:blipFill>
          <a:blip r:embed="rId1"/>
          <a:stretch/>
        </p:blipFill>
        <p:spPr>
          <a:xfrm>
            <a:off x="3857760" y="2500200"/>
            <a:ext cx="5054400" cy="32799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to AfL is students being act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d participants in their lear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of ways in which content can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ed for these ends, ra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the other way 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ntent seems boring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 approach fun or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and Short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raw together progression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picture, students could set bo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and short term targ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ort term targets c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weekly or fortnightly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 targets at the end of  te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ing a long term target may g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gency to the pupil’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’s short term targets. It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allow the pupil to focus on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ly motivates them abou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http://almandsoncom.superpageshosting.com/nss-folder/pictures/smallCartoonHouse.gif"/>
          <p:cNvPicPr/>
          <p:nvPr/>
        </p:nvPicPr>
        <p:blipFill>
          <a:blip r:embed="rId1"/>
          <a:stretch/>
        </p:blipFill>
        <p:spPr>
          <a:xfrm>
            <a:off x="5048280" y="1647720"/>
            <a:ext cx="17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http://bp0.blogger.com/_4VSSbxhl00U/RqThxUQ1FxI/AAAAAAAAADs/ZE3Gij8oMes/s320/Cartoon+Castle.jpg"/>
          <p:cNvPicPr/>
          <p:nvPr/>
        </p:nvPicPr>
        <p:blipFill>
          <a:blip r:embed="rId2"/>
          <a:stretch/>
        </p:blipFill>
        <p:spPr>
          <a:xfrm>
            <a:off x="6858000" y="4016520"/>
            <a:ext cx="1895400" cy="21589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7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http://www.magnetick.co.uk/media/gbu0/prodsm/magnetic-paper-a4-a3.jpg"/>
          <p:cNvPicPr/>
          <p:nvPr/>
        </p:nvPicPr>
        <p:blipFill>
          <a:blip r:embed="rId1"/>
          <a:stretch/>
        </p:blipFill>
        <p:spPr>
          <a:xfrm>
            <a:off x="5357880" y="3952800"/>
            <a:ext cx="2905200" cy="29052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ute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identify the most signific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ful, meaningful, unlikely) 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learnt during the lesson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http://www.kelston.org.uk/assets/images/minute.jpg"/>
          <p:cNvPicPr/>
          <p:nvPr/>
        </p:nvPicPr>
        <p:blipFill>
          <a:blip r:embed="rId2"/>
          <a:stretch/>
        </p:blipFill>
        <p:spPr>
          <a:xfrm>
            <a:off x="5786280" y="1500120"/>
            <a:ext cx="1936800" cy="25765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quiry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enquiry question to stimu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level thinking in the lesson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emocratic is the United Kingd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ur school so ethnically dive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nquiry-based learning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mpus.manchester.ac.uk/ceebl/ebl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http://www.arabwebagency.com/images/enquiry-img.jpg"/>
          <p:cNvPicPr/>
          <p:nvPr/>
        </p:nvPicPr>
        <p:blipFill>
          <a:blip r:embed="rId2"/>
          <a:stretch/>
        </p:blipFill>
        <p:spPr>
          <a:xfrm>
            <a:off x="5143680" y="1571760"/>
            <a:ext cx="3295440" cy="4181400"/>
          </a:xfrm>
          <a:prstGeom prst="rect">
            <a:avLst/>
          </a:prstGeom>
          <a:ln w="0">
            <a:noFill/>
          </a:ln>
        </p:spPr>
      </p:pic>
      <p:sp>
        <p:nvSpPr>
          <p:cNvPr id="34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iley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draw smiley faces to indicate how comfortable they are with the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://tbn0.google.com/images?q=tbn:bTWYMRfBSE6riM:http://www.plu.edu/~kcnstv26/img/smiley-face.jpg"/>
          <p:cNvPicPr/>
          <p:nvPr/>
        </p:nvPicPr>
        <p:blipFill>
          <a:blip r:embed="rId1"/>
          <a:stretch/>
        </p:blipFill>
        <p:spPr>
          <a:xfrm>
            <a:off x="642960" y="2714760"/>
            <a:ext cx="1685880" cy="1699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http://tbn0.google.com/images?q=tbn:Y51Ew6yX5Cpu4M:http://www.terceraescuadrilla.com/almacen/personal/DSLam/swg/smiley-indifferent.jpg"/>
          <p:cNvPicPr/>
          <p:nvPr/>
        </p:nvPicPr>
        <p:blipFill>
          <a:blip r:embed="rId2"/>
          <a:stretch/>
        </p:blipFill>
        <p:spPr>
          <a:xfrm>
            <a:off x="3786120" y="2786040"/>
            <a:ext cx="1762200" cy="17622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http://tbn3.google.com/images?q=tbn:HIeXjhQ3CVyXYM:http://static.bigstockphoto.com/thumbs/7/3/3/small/3376000.jpg"/>
          <p:cNvPicPr/>
          <p:nvPr/>
        </p:nvPicPr>
        <p:blipFill>
          <a:blip r:embed="rId3"/>
          <a:stretch/>
        </p:blipFill>
        <p:spPr>
          <a:xfrm>
            <a:off x="6572160" y="2714760"/>
            <a:ext cx="1762200" cy="17618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7"/>
          <p:cNvSpPr/>
          <p:nvPr/>
        </p:nvSpPr>
        <p:spPr>
          <a:xfrm>
            <a:off x="214200" y="48578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y to mov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3286080" y="47862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 some parts but no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6215040" y="48578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understand and need to look at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ght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questioning, insert th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ht’ to give students gr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to think and expl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ible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meaning of democrac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might the meaning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cracy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rst infers a single answer kn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the teacher whereas the secon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herently more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http://smarteconomy.typepad.com/.a/6a00d8341ed85853ef0105365f1211970c-800wi"/>
          <p:cNvPicPr/>
          <p:nvPr/>
        </p:nvPicPr>
        <p:blipFill>
          <a:blip r:embed="rId1"/>
          <a:stretch/>
        </p:blipFill>
        <p:spPr>
          <a:xfrm>
            <a:off x="4572000" y="1857240"/>
            <a:ext cx="3968640" cy="279396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5429160" y="4714920"/>
            <a:ext cx="285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might the Great Depression look like to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upil has finished a pie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they draw a square on the p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y do not understand the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olour it red, if they are so-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yellow and if A-OK the g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http://creativeclass.typepad.com/thecreativityexchange/images/red_sqaure.jpg"/>
          <p:cNvPicPr/>
          <p:nvPr/>
        </p:nvPicPr>
        <p:blipFill>
          <a:blip r:embed="rId1"/>
          <a:stretch/>
        </p:blipFill>
        <p:spPr>
          <a:xfrm>
            <a:off x="4786200" y="150012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printsandprintmaking.gov.au/images/small/154758/wicks-arthur-yellow-square.jpg"/>
          <p:cNvPicPr/>
          <p:nvPr/>
        </p:nvPicPr>
        <p:blipFill>
          <a:blip r:embed="rId2"/>
          <a:stretch/>
        </p:blipFill>
        <p:spPr>
          <a:xfrm>
            <a:off x="6929280" y="3571920"/>
            <a:ext cx="1704960" cy="17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nigeltomm.files.wordpress.com/2009/02/green_square_nigel_tomm_m.jpg"/>
          <p:cNvPicPr/>
          <p:nvPr/>
        </p:nvPicPr>
        <p:blipFill>
          <a:blip r:embed="rId3"/>
          <a:stretch/>
        </p:blipFill>
        <p:spPr>
          <a:xfrm>
            <a:off x="5000760" y="4786200"/>
            <a:ext cx="1771560" cy="1771920"/>
          </a:xfrm>
          <a:prstGeom prst="rect">
            <a:avLst/>
          </a:prstGeom>
          <a:ln w="0">
            <a:noFill/>
          </a:ln>
        </p:spPr>
      </p:pic>
      <p:sp>
        <p:nvSpPr>
          <p:cNvPr id="357" name="TextBox 7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ddiest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rite down one or tw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on which they are least cl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uld be from the previ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, the rest of the unit,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ing activity etc. The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lass can then seek to reme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dd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://users.ox.ac.uk/~sg/ridgeway/11%20Mud.jpg"/>
          <p:cNvPicPr/>
          <p:nvPr/>
        </p:nvPicPr>
        <p:blipFill>
          <a:blip r:embed="rId1"/>
          <a:stretch/>
        </p:blipFill>
        <p:spPr>
          <a:xfrm>
            <a:off x="4286160" y="2286000"/>
            <a:ext cx="4619880" cy="34639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Sentence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rite a sen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sing their knowledge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ntence could have to incl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, what when, why, how, 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ntences could then be pe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ed, re-drafted 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http://www.hogdb.com/razorback-photos/albums/yearly_photos/1890s/1894/1894-Arkansas-Sentinel-Fayetteville-11131894.jpg"/>
          <p:cNvPicPr/>
          <p:nvPr/>
        </p:nvPicPr>
        <p:blipFill>
          <a:blip r:embed="rId1"/>
          <a:stretch/>
        </p:blipFill>
        <p:spPr>
          <a:xfrm>
            <a:off x="4500720" y="2230560"/>
            <a:ext cx="4457520" cy="2082600"/>
          </a:xfrm>
          <a:prstGeom prst="rect">
            <a:avLst/>
          </a:prstGeom>
          <a:ln w="0">
            <a:noFill/>
          </a:ln>
        </p:spPr>
      </p:pic>
      <p:sp>
        <p:nvSpPr>
          <p:cNvPr id="365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it-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ait time allows students time to th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therefore to produce answers. Als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ot everyone in the class thinks a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ame speed or in the same way – wai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llows students to build their though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explore what has been ask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2 types of wait time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acher speaks and then waits before taking student respon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tudent response ends and then teacher waits before responding. This gives the student space to elaborate or continue – or for another student to respo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ttp://www.leda-lite.co.uk/wait/wait_1.JPG"/>
          <p:cNvPicPr/>
          <p:nvPr/>
        </p:nvPicPr>
        <p:blipFill>
          <a:blip r:embed="rId1"/>
          <a:stretch/>
        </p:blipFill>
        <p:spPr>
          <a:xfrm>
            <a:off x="5286240" y="1214280"/>
            <a:ext cx="2857680" cy="4762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n vs cl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sed questions can be usef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are not great at facilit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use of abstract thinking skil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ing talking or eliciting m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ing. Open question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likely to do this and th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d you go out last nigh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id you after school yester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://www.photomagnets.com/openclosedledneonsign.jpg"/>
          <p:cNvPicPr/>
          <p:nvPr/>
        </p:nvPicPr>
        <p:blipFill>
          <a:blip r:embed="rId1"/>
          <a:stretch/>
        </p:blipFill>
        <p:spPr>
          <a:xfrm>
            <a:off x="4929120" y="1214280"/>
            <a:ext cx="3476520" cy="4857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0:16:01Z</dcterms:created>
  <dc:creator>mgershon</dc:creator>
  <dc:description/>
  <dc:language>en-US</dc:language>
  <cp:lastModifiedBy>Shore</cp:lastModifiedBy>
  <dcterms:modified xsi:type="dcterms:W3CDTF">2009-08-25T03:24:40Z</dcterms:modified>
  <cp:revision>35</cp:revision>
  <dc:subject/>
  <dc:title>Assessment For Learning Activities</dc:title>
</cp:coreProperties>
</file>